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738-F52C-4B72-A5B4-383FC8F6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6B8-3BC7-41AC-9A85-9686464D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54A-94A5-49C5-9A6A-66C4A00F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981-9694-41E1-8DF6-04AA28D1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141-3173-4FE1-A126-55C099E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156-76AA-41A5-988B-FE07EA23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EC0-6D78-4DAF-82CB-CB24A40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D4E-1C65-47CE-B418-8C5AB5F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04B-7679-4F03-B607-B0BD76BC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943-F3E8-4BE9-BF8A-DBE2EDC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A31-6532-4C4E-A4BB-A892A90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CA7-526D-4801-8A7E-008345A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38B-4491-40DA-84C3-0AC13D273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A23-4E84-4815-89A9-C11DD74B49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have to be home b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’clock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Keep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 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rules of saf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n you sw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26F-B650-4248-82F5-8E17D65EF4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&amp;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会记住你的忠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6360" y="3352680"/>
            <a:ext cx="61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ll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r advic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9C7-CE93-4240-A2B3-AD8966B43E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赞扬、称赞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352680"/>
            <a:ext cx="7422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C83-6EA8-43B9-B796-614B457F0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rai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oet has written many poe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is mother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FCC-8A7A-43CE-A890-1CF73A6B99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Paragraph 6, Page 50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do what sb. tells you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遵循，依照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行事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0240" y="3200400"/>
            <a:ext cx="689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the musicia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F06-6FA3-40B8-ADB9-C308ACBC34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alway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y ow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inciple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只听她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648320"/>
            <a:ext cx="575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only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6E0-0F37-4A2C-A336-1A107A75A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些村民仍然遵守他们祖先的习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 ___ ______ 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_ of their grandfath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42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ll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41911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ust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798-9A31-403F-950E-1CF51B379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 …out of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制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make bricks out of cl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3429000"/>
            <a:ext cx="7099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st Indian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mus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rument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ut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rge oil c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107-07FF-4C15-B071-11C72B768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…into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制成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her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ambo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building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of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in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from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rape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B0C-A5B6-412F-84A6-0CE4832257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A98-7FCA-467E-9CE9-C28563A79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deal with some difficult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ong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g Fo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643-D4FD-4341-8CE8-30A960C85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306-9725-4497-B552-D34D065EE5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259-19C4-48ED-8E2B-F0418BA67E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8E6-A3F2-48C7-8F0A-3CAC679FA9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1DE-CC61-4CD8-BBA1-A98F828E51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DC3-9969-437D-905E-AD684764B8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CAF-0F5B-410A-9EAA-56D9FD8129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F87-F011-4F99-8852-3C99366CBC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15C-BC0E-40E2-840F-60F0E902BB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E6D-3924-48B8-8059-5F122F27AB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5D2-515F-46A4-80AF-0FF744165B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   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1, Page 50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e way that people get money for life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生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276720"/>
            <a:ext cx="6351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y people earn thei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writing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F65-995B-4E35-A910-EC795A5407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851-CB5E-4E89-ABC0-13868BF9B8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3, Paragraph 1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y usually write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c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w the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to be play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通常还要为如何演奏这些音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出准确的说明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493-6A97-470E-AF88-8E34A71BC6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always asks hersel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at is to be done nex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have no idea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you 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er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F2-44A0-4CE2-9E40-F6EBAAFBA2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ng in praise of heroe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ong ag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349-6F4F-4A08-96F5-8778208B1C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6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7640" y="2666880"/>
            <a:ext cx="64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was at a tim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s no radio, TV or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520" y="4648320"/>
            <a:ext cx="689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ich the musician follo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B83-9321-4A9E-9D8A-A29919AA98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在加勒比海地区，从非洲运来的奴隶发展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自己的音乐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7440" y="2666880"/>
            <a:ext cx="717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Caribbean the slave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rought from Afric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own kind of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08D-E34E-41A4-B554-4CC40C6019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1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some parts of the world nowadays, you often see music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erforming in the streets to passers-b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AB6-4CEE-4B60-986E-D980C59C98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ine 2, Paragraph 4, Page 5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put a cap on the groun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nt of them,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o th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eople wh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ke the music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rop coins in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4DD-6AB4-41A8-8B07-53BE842050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y father bought a bicycle so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u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et to school quick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studies hard so that 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c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rested so that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i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AAB-E8A5-4B9B-BDBF-1447FAD95E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 produces musicals too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ilms with music, and million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cords are sold every year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AB2-68F8-485F-88E6-0592E6437F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/ earn one’s liv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谋生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r. Smith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ed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arde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 teac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s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, a writer by wri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009-F209-49C2-B4A1-12FAE0C40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插入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即插入到句子中间，或是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在句字末尾，不充当句子成分的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短语或句子。它主要起修饰或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说明的作用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ECE-00F4-49EC-AE47-8FCC494D8C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插入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man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thou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n lost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know the people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y s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re f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 can take it home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f you li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8B1-7B90-4224-B7C8-501EAA3921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主语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游泳有利于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条街上禁止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480" y="3200400"/>
            <a:ext cx="62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good for h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64832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rking on this stree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forbid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76D-74BA-4326-B137-DD843D4661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宾语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别说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喜欢在山里宿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880" y="32767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ease stop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lk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200" y="4648320"/>
            <a:ext cx="5502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enjoy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mp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unta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B77-10C7-42F7-BC05-3E69FD9F2F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My hobby i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irpla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803-B558-407E-ABA2-2359D9557F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最喜欢的运动是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的工作是照顾病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9760" y="33526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favorite sport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7960" y="4724280"/>
            <a:ext cx="5854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job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king car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tien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FFA-B2C6-4EAE-98C2-8DAA65A416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She opened the letter with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rembl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He told us a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uch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What are you planning to do in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m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ac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360-FC7D-4463-9D19-DA6CC28C2C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gentlem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tanding ove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re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s our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Men _____________ do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now the pleasure of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f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住在城里的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9625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 in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226-D0C6-44B0-BFF5-6E8EAC03E9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found the bo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ying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gras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I watched hi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int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u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FC7-639E-4F22-BF4C-BC2BB5BECF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听到一只鸟在树林中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看见她在过马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760" y="3276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heard a bird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inging in the woo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3960" y="46483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saw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lking across the roa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AED-28A0-4A2B-B3F3-FE333037D4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2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1800" y="3429000"/>
            <a:ext cx="75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lk music has bee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560" y="4724280"/>
            <a:ext cx="76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this way stories wer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EC0-FE6C-4426-B0EB-BAE771522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alking i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A7F-83B0-49EC-837C-2883E4300C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alk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138-8EFC-4154-BDE7-6B4D443E94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Once your business becom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national, ____ constant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part of your life.       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ou fl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. your 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459-DCEE-405B-8A39-1B5902CA29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642-C9BA-4F64-AE98-9AC485F3546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E25-CBC4-4781-A76C-E447C9429F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7C5-4834-455E-BA4A-B06B37864A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11B-B242-4EAD-9C1D-7FECDCF34A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F18-D1EA-41AC-A206-766836E3588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4EC-67B9-45AC-833B-BB6FE983063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D00-659B-4842-B66A-EF12B6954D7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o give or leave to people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re younger or come l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传给、流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注意：三个词组都通常用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被动语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F6C-4129-472F-BF80-6D538352B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088-1567-48AF-9CDD-53ACCB006FB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5---Page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actice 6---Page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1---Page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2---Page 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Unit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B06-8356-4FE9-BBB4-B114CD8D9C1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riting---Page 5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E49-E3B1-4945-A1C0-53C876A3018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ss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lett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nager as soon as I go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is custo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s been h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ince the 18th centu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BC0-F266-4E66-A49C-C46B22AED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on, 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好传统应该世代相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ood tradi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933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h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from one gener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2EC-F691-44FD-842C-0A8CEF0D8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… by hear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记住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  &amp;   bear in min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440" y="3429000"/>
            <a:ext cx="66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used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ear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undred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ng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he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A3-6EC0-471C-A68F-BBFFAB76D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8:25:24Z</dcterms:created>
  <dc:creator>BJ4HS</dc:creator>
  <dc:description/>
  <dc:language>en-US</dc:language>
  <cp:lastModifiedBy>Zhang Lingdi</cp:lastModifiedBy>
  <dcterms:modified xsi:type="dcterms:W3CDTF">2003-06-03T06:48:16Z</dcterms:modified>
  <cp:revision>105</cp:revision>
  <dc:subject/>
  <dc:title>Unit 21 Music （二）</dc:title>
</cp:coreProperties>
</file>